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EF13-892B-48AD-9E27-ED1EFE700B66}" type="datetime">
              <a:rPr b="0" lang="en-US" sz="1200" spc="-1" strike="noStrike">
                <a:solidFill>
                  <a:srgbClr val="000000"/>
                </a:solidFill>
                <a:latin typeface="Trebuchet MS"/>
              </a:rPr>
              <a:t>07/31/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64D5-9A6F-4C2F-AFAA-37F36E8F252C}"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4DF5-9CC7-4848-99EC-2491DE9B69B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2785-A48A-4F34-B99C-6A4A78B5B515}"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9262-CAA4-4E95-AEF8-E6035F54F1B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A391-B2CE-44A7-A302-8CB3E79EA8E3}"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B123-9731-4475-B161-49CC9B97640A}"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5292-3E99-4D8D-89D5-35030DEB3C3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C8B5-155E-401E-9191-45ACE5B68CB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BCF589-ABD6-4E68-A86C-AC9CE521D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705216-2781-41A7-B309-D48BA8FAF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6E9E5C-25EB-4B1C-89C4-531CA3B202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00AA68-6387-48A2-9B0E-86563DA80B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7C8C26-1AC3-45EC-9E9B-CCCEE6E40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DD2BE7-5704-4967-8BB9-22FFCE7E6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3CA3DB-026A-45C0-9A79-24DB605E5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9BC20-ADA3-474F-B888-807CBCD36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D2A32-CEC4-4F3D-AC9A-DD46CE576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28777-062B-49CD-963C-8672C82D26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CC70B-213C-41E4-908A-1030EADA6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4D847F-DEE6-4F12-AA6B-CC79542740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A222-A0AC-48CA-94E5-C88F1282B8DD}"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2681-335C-4FFF-99E0-1E2EC324FE6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FA32-D6C3-4475-82E8-1513EA22FBC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A90F-7015-4F22-A937-D0D60B34143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D2CB-0EDC-4570-999D-83A661329A5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D783-7D44-4F36-9785-F5472BB2526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2BAF-2B76-4325-9D77-F1DCB28767E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C4C-5F97-49F0-97F4-00598FE3585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BE59-BDF0-4E2F-98CA-D2D6088AEC4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3ECC-66C9-40CD-81AB-F604F0C854E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CEC5-5FDB-4476-93CE-8D004BB0A06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A79A-06AD-48A7-B8F6-510435EDE23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8736-9455-4768-8C1E-B417D133E8E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82D2-2D7F-46E0-8134-366BAEE8005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6D3D-C32B-4F10-8F1A-C576D861B1F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6DBD-0970-447F-8C6C-B1BF8D34753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8A1B-19AB-455E-99B4-52AF032D5AD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C280-325A-4EF4-B0BE-9B9BD18C785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5455-6978-437C-B26A-6CDCEB67CCA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7B24-CDD4-4D57-A95B-3751D77C3B9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43AB-9B4E-49CE-BD5C-EEEEC3EDFBC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A1FF-02BB-4AE3-80BA-A5A450CDA19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